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chimes.wav" ContentType="audio/x-wav"/>
  <Override PartName="/ppt/media/whoosh.wav" ContentType="audio/x-wav"/>
  <Override PartName="/ppt/media/image2.png" ContentType="image/png"/>
  <Override PartName="/ppt/media/wind.wav" ContentType="audio/x-wav"/>
  <Override PartName="/ppt/media/explode.wav" ContentType="audio/x-wav"/>
  <Override PartName="/ppt/media/push.wav" ContentType="audio/x-wav"/>
  <Override PartName="/ppt/media/cashreg.wav" ContentType="audio/x-wav"/>
  <Override PartName="/ppt/media/hammer.wav" ContentType="audio/x-wav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CF0-916E-4DEC-AB01-77FB1C97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7EE-4BD6-4556-BFB5-EDB5721A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9C4-421A-4B70-8C2E-8D293E82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07D-09DA-47CE-B72E-3D45340C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4D2C-1857-4159-AC34-E26B6281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69C3-90CF-4E6B-BB1C-CC308A7C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DCCF-1756-4AD6-A686-8182F305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3C8E-D437-46A8-8E30-11C36697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9DE5-C455-4276-8E70-84E815EB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A1C3-9AF4-4131-8036-0A414ACB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0EA8-E247-4CFE-9107-4A6B1C8B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3DE1-BC12-4BF3-BADA-4807BAC3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71DC-5D69-49FF-9F33-D51C3F1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9120-8093-42BD-8E4B-D3859641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4ACA-D83E-4207-B660-02E91712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DCBF-A6DC-4B5D-A99B-A55D7C9F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68A1-1300-44DB-A772-F829727E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E57AA-4041-4546-8071-8E079DCC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56871-1020-460A-BCA0-F05E9205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EA5EE-1219-4544-BA77-DDD212E7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4FE4E-650B-4087-855E-C68A92E0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A5F4C-D2A4-4259-8B4F-DC976438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89E-45A9-4588-A5DB-B2DC2F00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70B55-9FC4-43B0-8B2E-8AB2F6F9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A1F15-9762-4CB8-B4A7-1C1693E7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D9CA7-6CA2-4295-AD99-AF649FE9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0AA4D-4E33-49E8-8431-6761BBA1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362D7-4DB3-4133-BE87-25C03EA7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5CDE3-5725-4338-A153-7DC4AD62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DA2B0-5E71-4689-9C41-6B2739C1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E4EF-6208-4726-B482-6EE8757B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AA3E-536E-43B6-9B25-61EAE193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8174E-439F-4F14-8EDA-CF938ECF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D16-AFA5-460F-AD7B-CC20123B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130F7-686A-4E51-B5BE-62E1FC9A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75ED1-E999-41F6-A10F-35696554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99DE-4B75-4D8E-A63B-18A1E178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0341A-D5A2-4753-A182-50750F80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97C91-5F18-4AE3-B1A1-0DB25682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AC25-4D61-40C5-999D-3D0BFC7C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35ED2-D167-4DB3-A88F-AF3447DA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0DEC2-886F-45D7-A6AB-A62F272A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04877-CB35-4D94-B1B7-69B275E9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0CCFB-34B5-4624-B272-742F8332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06C-1969-440E-9072-268E7379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DFD93-B8CC-4838-B790-37A71D2A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D2C77-B9D3-4E99-AEB4-C7E107AF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76B38-2849-4595-B86E-49231CDB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D73EA-51F1-45EB-B734-551C3616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5FB51-6918-40EC-9DD6-6C6FA34A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C64A9-00DF-4F95-8588-98618397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DAB0B-52C4-4321-A91D-333B7666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31A39-EFB3-429A-8569-2B26F4F9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92FF8-C1F8-470A-9C75-A6FCDF59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CD3BB-AF74-40FD-88E4-ABF844B0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894-31B7-4DF7-9EA5-35AD6925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3AC50-07B1-4050-BF94-9A7D8E03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F1EA9-E179-4657-B2AD-18A7CE46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5F357-B405-48D7-80B8-DD7B71E1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7E8E2-4467-4F72-BEC4-5CCC77FE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2849E-87B0-4E0C-9653-3B3DF76F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5A6DD-5857-4829-ADCE-501B7278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B8B57-7FC0-42B3-8ACC-A69C3292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5C76A-5B1E-43A1-BC9C-2497FC57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2B5FE-6BD9-412C-8856-DEA97A42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AF6D3-6CB8-4ED8-AB46-F8D5E84F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05F-3E0C-4476-90E0-EC88EC42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BFCCE-3020-4508-A925-EC097467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EB24B-DBCA-46CC-9332-FE51308D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B8CB9-C6E0-4E79-A075-24ED2A82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53795F-40FD-409F-9779-A50CB035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09F44-B46B-47D6-A98D-615DD47E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9D6F2-6132-4E76-9958-29A1AD2B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4728F-59DB-439E-9D7E-46C749EE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8D4C3-A20E-49C1-9423-3DC0907E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AC9C8-82AE-456F-9B03-F73A7B9E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E1CBD9-5211-4ED2-A07F-7F2D0E17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F34-B7AB-4187-9FC5-0312D15F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B30F1-CA7A-4F8C-A390-8A0970AF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D0327-62B2-4477-8F46-69046839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9FE3F-6003-4FE2-A4CD-B53A8AA2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AD0C5-D6BA-4A1A-91F5-A48FBA73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424CA-8DD3-4DC7-9FD9-72E1562E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63B-9B36-4526-83FA-D8EA635C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422B-B9CE-4678-BD17-7126750702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6b1a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fc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fc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9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6b1a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9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6b1a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6b1a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F14A-C3A2-4F56-9B6E-81FC3C52F8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5AAF-B063-4E89-AD5E-F664DF0576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6b1a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fc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fc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9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6b1a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9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6b1a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6b1a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9e5d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9e5d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0A6B-8DFE-421A-8DB7-6C3D53E0C1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CD7F-8DE7-4E2E-A3CE-409245B874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CBD5-1257-4F0E-8DB5-967E07BD5E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86DB-3AC8-4A83-A8E8-9DC18D8840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katherinemcooper.wikispaces.com/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entury Schoolbook"/>
              </a:rPr>
              <a:t>RULES AND PROCEDURES</a:t>
            </a:r>
            <a:endParaRPr b="0" lang="en-US" sz="5900" spc="-1" strike="noStrike">
              <a:solidFill>
                <a:srgbClr val="696464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3886200" cy="3767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entury Schoolbook"/>
              </a:rPr>
              <a:t>TURNING IN </a:t>
            </a:r>
            <a:r>
              <a:rPr b="1" lang="en-US" sz="3600" spc="-1" strike="noStrike">
                <a:solidFill>
                  <a:srgbClr val="696464"/>
                </a:solidFill>
                <a:latin typeface="Century Schoolbook"/>
              </a:rPr>
              <a:t>LATE ASSIGNMENTS</a:t>
            </a:r>
            <a:endParaRPr b="0" lang="en-US" sz="36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You will not receive full credi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You will only receive 50% of full credit, and will only be accepted 2 days after the due dat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  <p:sndAc>
      <p:stSnd>
        <p:snd r:embed="rId1" name="pu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TARDINES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efined as not being in your assigned seat when the bell ring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f you are tardy to class without a pass you will receive 1 day of after school detention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te goes home to notify parent / guardian of detention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  <p:sndAc>
      <p:stSnd>
        <p:snd r:embed="rId1" name="explod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BEFORE THE BELL RING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51920" y="18284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MUST BE IN YOUR SEAT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ave your pencil sharpened, because you will not interrupt the class to sharpen your pencil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ake sure you have the right materials needed to participate, because you will not be allowed to go to your locked except during designated time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RUL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bey ALL rules in the County and School Handbook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Enter the classroom quietly with all needed materials, and be prepared for class before the bell rings. Your socializing is done in the hallways. The classroom is for learnin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dissolve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RUL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lways bring ALL required materials to class. I will NOT let you out because you forgot somethin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 eating in clas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how respect and courtesy for the instructor, yourself, fellow classmates, and the classroo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horz"/>
    <p:sndAc>
      <p:stSnd>
        <p:snd r:embed="rId1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RUL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ttend all personal needs before class. Do NOT groom yourself in clas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teacher dismisses the class, NOT the bell. If you all are in your seats and quiet when the bell rings, you will get to leave faster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  <p:sndAc>
      <p:stSnd>
        <p:snd r:embed="rId1" name="hamme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RUL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 student caught cheating (aiding in or copying: homework, class work, quizzes, tests, etc.) will receive a 0 and will result in immediate disciplinary action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ink before you speak or act. Is it a good choice? Your opinion IS valuable, BUT there is a time to be expressiv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  <p:sndAc>
      <p:stSnd>
        <p:snd r:embed="rId1" name="hamm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RUL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.S. If I see a cell phone or any other electronic device at all, I WILL confiscate it immediately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285840" y="3432240"/>
            <a:ext cx="4457520" cy="6065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4743360" y="3425760"/>
            <a:ext cx="3711600" cy="6894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END OF CLAS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CLEAN UP ANY MES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, and put items back in plac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THE BELL DOES NOT DISMISS YOU !!!!!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I will let you go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614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ENTERING THE CLASSROOM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ONCE YOU HAVE ENTERED YOU MAY NOT LEAVE.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o come prepared with material required for class. You will not be able to leave to go to lockers, at any point during cla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Find your seat QUIETLY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nd begin to work on the warm-up, which will be checked periodically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BATHROOM PASS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286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Every student will receive a bathroom pass. Each pass will allow you to go to the bathroom 5 times for the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nd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quarters of semester 2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You will receive another pass for the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nd 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quarters, of semester 2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f you do not use any of your passes you will receive extra credit, to final grade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EXPECTATION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Be in your seat and ready to work when the bell rings – you will be considered tardy otherwis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Bring all materials to class every day. BE PREPARED TO LEARN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Follow directions the first time they are given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dissolve/>
    <p:sndAc>
      <p:stSnd>
        <p:snd r:embed="rId1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ASSROOM EXPECTATION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at your self, fellow students, and Mrs. Cooper with respec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Use proper language in the classroom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lassroom disruptions are not accepted, remember there are consequence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ut forth your best effor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ONSEQUENC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ffense: Warning – this may include a change in seat and student conferenc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ffense: After School detention and Parent contact/conferenc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Schoolbook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ffense: Referral to administrator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over dir="l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MAKE UP WORK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522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If your are absent from class you are required to check the absent box in your file for any missed work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This is to be done in the first 5 minutes of class. 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You may also check my website at </a:t>
            </a:r>
            <a:r>
              <a:rPr b="0" lang="en-US" sz="3400" spc="-1" strike="noStrike" u="sng">
                <a:solidFill>
                  <a:srgbClr val="cc9900"/>
                </a:solidFill>
                <a:uFillTx/>
                <a:latin typeface="Century Schoolbook"/>
                <a:hlinkClick r:id="rId1"/>
              </a:rPr>
              <a:t>http://katherinemcooper.wikispaces.com/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MAKE UP WORK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522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Missed test / quiz will be made up before or after school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Students with excused absence will be allowed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Century Schoolbook"/>
              </a:rPr>
              <a:t>3 days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to make up any missed work for full credit.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ake sure to write “absent” on your paper, so I do not count it as late.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TURNING IN ASSIGNMENT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ake sure your name and period are on the assignment, or you will not get a grad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ssignments will be turned in at the beginning of class. Once I have collected all work, any work turned in afterward will be considered late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23:28:05Z</dcterms:created>
  <dc:creator>Valued Acer Customer</dc:creator>
  <dc:description/>
  <dc:language>en-US</dc:language>
  <cp:lastModifiedBy>Technology</cp:lastModifiedBy>
  <dcterms:modified xsi:type="dcterms:W3CDTF">2012-01-23T03:10:44Z</dcterms:modified>
  <cp:revision>25</cp:revision>
  <dc:subject/>
  <dc:title>Rules and Procedu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336811</vt:lpwstr>
  </property>
</Properties>
</file>